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90E-E802-495A-A2D0-43E984D8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BA6-013F-43C1-9F7D-0912B346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88F-F2DA-4E64-A396-42F9771E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31F-E579-4B75-A1BF-C73F15C1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C1A-4D40-40D2-B7A7-89691FE1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87E-730B-40F2-AED8-136B6C44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1E01-42ED-4A87-B779-5933932F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402-CD25-4AE5-A2C1-2625672C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B12-109C-442A-ADC2-3BBC9077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8F39-D586-4083-811F-7DB8F248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AC0-AFAA-499B-8EE5-829E0614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08F-8F60-4672-BA1F-B5E4B058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5A72-55D9-4057-802D-E53A7B15B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80880" y="2482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Lucida Sans"/>
              </a:rPr>
              <a:t>Do Activity 5.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533520" y="166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Bias VS. Variability: the bulls ey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33520" y="7002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Turn to page 225- look at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33520" y="129528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Bias-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consistent, repeated measurements that are not close to the population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09480" y="29098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Variability-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basically like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33520" y="152280"/>
            <a:ext cx="79246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33520" y="4419720"/>
            <a:ext cx="79246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33520" y="4724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To reduce bias… use random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33520" y="5486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To reduce variability… use larger sampl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33520" y="3672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We want to keep both of these l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3"/>
          <p:cNvSpPr/>
          <p:nvPr/>
        </p:nvSpPr>
        <p:spPr>
          <a:xfrm>
            <a:off x="15228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Label each as high or low for bias and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114800" y="83808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733920" y="106668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495680" y="1371600"/>
            <a:ext cx="3812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876920" y="1828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352680" y="1828800"/>
            <a:ext cx="381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2971800" y="21337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1066680" y="26668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5257800" y="2286000"/>
            <a:ext cx="3808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2590920" y="2286000"/>
            <a:ext cx="3808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 flipV="1">
            <a:off x="27432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3"/>
          <p:cNvGrpSpPr/>
          <p:nvPr/>
        </p:nvGrpSpPr>
        <p:grpSpPr>
          <a:xfrm>
            <a:off x="304920" y="3809880"/>
            <a:ext cx="7924680" cy="2090160"/>
            <a:chOff x="304920" y="3809880"/>
            <a:chExt cx="7924680" cy="2090160"/>
          </a:xfrm>
        </p:grpSpPr>
        <p:sp>
          <p:nvSpPr>
            <p:cNvPr id="123" name="Text Box 25"/>
            <p:cNvSpPr/>
            <p:nvPr/>
          </p:nvSpPr>
          <p:spPr>
            <a:xfrm>
              <a:off x="304920" y="4952880"/>
              <a:ext cx="4038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0"/>
            <p:cNvSpPr/>
            <p:nvPr/>
          </p:nvSpPr>
          <p:spPr>
            <a:xfrm>
              <a:off x="4038480" y="3809880"/>
              <a:ext cx="380880" cy="1600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2"/>
            <p:cNvSpPr/>
            <p:nvPr/>
          </p:nvSpPr>
          <p:spPr>
            <a:xfrm>
              <a:off x="3657600" y="4038480"/>
              <a:ext cx="380880" cy="1371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4"/>
            <p:cNvSpPr/>
            <p:nvPr/>
          </p:nvSpPr>
          <p:spPr>
            <a:xfrm>
              <a:off x="3276720" y="4343400"/>
              <a:ext cx="38088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36"/>
            <p:cNvSpPr/>
            <p:nvPr/>
          </p:nvSpPr>
          <p:spPr>
            <a:xfrm>
              <a:off x="2514600" y="480060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38"/>
            <p:cNvSpPr/>
            <p:nvPr/>
          </p:nvSpPr>
          <p:spPr>
            <a:xfrm>
              <a:off x="1371600" y="510552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267440" y="525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7"/>
            <p:cNvSpPr/>
            <p:nvPr/>
          </p:nvSpPr>
          <p:spPr>
            <a:xfrm>
              <a:off x="2514600" y="5562720"/>
              <a:ext cx="373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1"/>
            <p:cNvSpPr/>
            <p:nvPr/>
          </p:nvSpPr>
          <p:spPr>
            <a:xfrm>
              <a:off x="609480" y="525780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52"/>
            <p:cNvGrpSpPr/>
            <p:nvPr/>
          </p:nvGrpSpPr>
          <p:grpSpPr>
            <a:xfrm>
              <a:off x="4800600" y="4038480"/>
              <a:ext cx="3429000" cy="1371960"/>
              <a:chOff x="4800600" y="4038480"/>
              <a:chExt cx="3429000" cy="1371960"/>
            </a:xfrm>
          </p:grpSpPr>
          <p:sp>
            <p:nvSpPr>
              <p:cNvPr id="133" name="Rectangle 31"/>
              <p:cNvSpPr/>
              <p:nvPr/>
            </p:nvSpPr>
            <p:spPr>
              <a:xfrm>
                <a:off x="4800600" y="4038480"/>
                <a:ext cx="380880" cy="1371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3"/>
              <p:cNvSpPr/>
              <p:nvPr/>
            </p:nvSpPr>
            <p:spPr>
              <a:xfrm>
                <a:off x="5943600" y="4343400"/>
                <a:ext cx="380880" cy="1067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6705720" y="4800600"/>
                <a:ext cx="380880" cy="609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7"/>
              <p:cNvSpPr/>
              <p:nvPr/>
            </p:nvSpPr>
            <p:spPr>
              <a:xfrm>
                <a:off x="7467840" y="5105520"/>
                <a:ext cx="38088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0"/>
              <p:cNvSpPr/>
              <p:nvPr/>
            </p:nvSpPr>
            <p:spPr>
              <a:xfrm>
                <a:off x="7848720" y="5258160"/>
                <a:ext cx="3808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43"/>
              <p:cNvSpPr/>
              <p:nvPr/>
            </p:nvSpPr>
            <p:spPr>
              <a:xfrm>
                <a:off x="7086600" y="5105520"/>
                <a:ext cx="38088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44"/>
              <p:cNvSpPr/>
              <p:nvPr/>
            </p:nvSpPr>
            <p:spPr>
              <a:xfrm>
                <a:off x="6324480" y="4800600"/>
                <a:ext cx="380880" cy="609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45"/>
              <p:cNvSpPr/>
              <p:nvPr/>
            </p:nvSpPr>
            <p:spPr>
              <a:xfrm>
                <a:off x="5562360" y="4343400"/>
                <a:ext cx="380880" cy="1067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46"/>
              <p:cNvSpPr/>
              <p:nvPr/>
            </p:nvSpPr>
            <p:spPr>
              <a:xfrm>
                <a:off x="5181480" y="4038480"/>
                <a:ext cx="380880" cy="1371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Rectangle 31"/>
            <p:cNvSpPr/>
            <p:nvPr/>
          </p:nvSpPr>
          <p:spPr>
            <a:xfrm>
              <a:off x="990720" y="525780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8"/>
            <p:cNvSpPr/>
            <p:nvPr/>
          </p:nvSpPr>
          <p:spPr>
            <a:xfrm>
              <a:off x="1752480" y="510552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9"/>
            <p:cNvSpPr/>
            <p:nvPr/>
          </p:nvSpPr>
          <p:spPr>
            <a:xfrm>
              <a:off x="2133720" y="480060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0"/>
            <p:cNvSpPr/>
            <p:nvPr/>
          </p:nvSpPr>
          <p:spPr>
            <a:xfrm>
              <a:off x="2895480" y="4343400"/>
              <a:ext cx="38088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1"/>
            <p:cNvSpPr/>
            <p:nvPr/>
          </p:nvSpPr>
          <p:spPr>
            <a:xfrm>
              <a:off x="4419720" y="3809880"/>
              <a:ext cx="380880" cy="1600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3"/>
          <p:cNvSpPr/>
          <p:nvPr/>
        </p:nvSpPr>
        <p:spPr>
          <a:xfrm>
            <a:off x="15228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Label each as high or low for bias and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304920" y="49528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4114800" y="380988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4495680" y="4038480"/>
            <a:ext cx="38124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4"/>
          <p:cNvSpPr/>
          <p:nvPr/>
        </p:nvSpPr>
        <p:spPr>
          <a:xfrm>
            <a:off x="3733920" y="4343400"/>
            <a:ext cx="3808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4876920" y="48006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3352680" y="5105520"/>
            <a:ext cx="3812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2"/>
          <p:cNvSpPr/>
          <p:nvPr/>
        </p:nvSpPr>
        <p:spPr>
          <a:xfrm flipV="1">
            <a:off x="426708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2514600" y="55627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5257800" y="5257800"/>
            <a:ext cx="3808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304920" y="228600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4038480" y="1143000"/>
            <a:ext cx="3812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3657600" y="137160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7"/>
          <p:cNvSpPr/>
          <p:nvPr/>
        </p:nvSpPr>
        <p:spPr>
          <a:xfrm>
            <a:off x="3276720" y="1676520"/>
            <a:ext cx="3808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2514600" y="21337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1371600" y="24382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5486400" y="28954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>
            <a:off x="609480" y="2590920"/>
            <a:ext cx="38124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52"/>
          <p:cNvGrpSpPr/>
          <p:nvPr/>
        </p:nvGrpSpPr>
        <p:grpSpPr>
          <a:xfrm>
            <a:off x="4800600" y="1371600"/>
            <a:ext cx="3429000" cy="1371600"/>
            <a:chOff x="4800600" y="1371600"/>
            <a:chExt cx="3429000" cy="1371600"/>
          </a:xfrm>
        </p:grpSpPr>
        <p:sp>
          <p:nvSpPr>
            <p:cNvPr id="166" name="Rectangle 59"/>
            <p:cNvSpPr/>
            <p:nvPr/>
          </p:nvSpPr>
          <p:spPr>
            <a:xfrm>
              <a:off x="4800600" y="1371600"/>
              <a:ext cx="38088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0"/>
            <p:cNvSpPr/>
            <p:nvPr/>
          </p:nvSpPr>
          <p:spPr>
            <a:xfrm>
              <a:off x="5943600" y="1676160"/>
              <a:ext cx="38088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1"/>
            <p:cNvSpPr/>
            <p:nvPr/>
          </p:nvSpPr>
          <p:spPr>
            <a:xfrm>
              <a:off x="6705720" y="213372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2"/>
            <p:cNvSpPr/>
            <p:nvPr/>
          </p:nvSpPr>
          <p:spPr>
            <a:xfrm>
              <a:off x="7467840" y="243864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0"/>
            <p:cNvSpPr/>
            <p:nvPr/>
          </p:nvSpPr>
          <p:spPr>
            <a:xfrm>
              <a:off x="7848720" y="259092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4"/>
            <p:cNvSpPr/>
            <p:nvPr/>
          </p:nvSpPr>
          <p:spPr>
            <a:xfrm>
              <a:off x="7086600" y="243864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5"/>
            <p:cNvSpPr/>
            <p:nvPr/>
          </p:nvSpPr>
          <p:spPr>
            <a:xfrm>
              <a:off x="6324480" y="213372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6"/>
            <p:cNvSpPr/>
            <p:nvPr/>
          </p:nvSpPr>
          <p:spPr>
            <a:xfrm>
              <a:off x="5562360" y="1676160"/>
              <a:ext cx="38088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7"/>
            <p:cNvSpPr/>
            <p:nvPr/>
          </p:nvSpPr>
          <p:spPr>
            <a:xfrm>
              <a:off x="5181480" y="1371600"/>
              <a:ext cx="38088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1"/>
          <p:cNvSpPr/>
          <p:nvPr/>
        </p:nvSpPr>
        <p:spPr>
          <a:xfrm>
            <a:off x="990720" y="2590920"/>
            <a:ext cx="3808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5"/>
          <p:cNvSpPr/>
          <p:nvPr/>
        </p:nvSpPr>
        <p:spPr>
          <a:xfrm>
            <a:off x="1752480" y="2438280"/>
            <a:ext cx="381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6"/>
          <p:cNvSpPr/>
          <p:nvPr/>
        </p:nvSpPr>
        <p:spPr>
          <a:xfrm>
            <a:off x="2133720" y="21337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7"/>
          <p:cNvSpPr/>
          <p:nvPr/>
        </p:nvSpPr>
        <p:spPr>
          <a:xfrm>
            <a:off x="2895480" y="1676520"/>
            <a:ext cx="3812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8"/>
          <p:cNvSpPr/>
          <p:nvPr/>
        </p:nvSpPr>
        <p:spPr>
          <a:xfrm>
            <a:off x="4419720" y="114300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V="1">
            <a:off x="72388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28600" y="1004760"/>
            <a:ext cx="8381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Lucida Sans"/>
              </a:rPr>
              <a:t>Try the HW proble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Lucida Sans"/>
              </a:rPr>
              <a:t>Page 226 #33, 35, 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457200" y="1600200"/>
            <a:ext cx="83818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* A number that describes a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127080"/>
            <a:ext cx="83818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Parame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A number that describes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57200" y="3124080"/>
            <a:ext cx="8381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polling agency takes a sample of 1500 American citizens and asks them if they are lactose intolerant. 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2%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say yes.  This is interesting, since it has been shown tha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5%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of the population is lactose intole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2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5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380880" y="304920"/>
            <a:ext cx="8382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random sample of 1000 people who signed a card saying they intended to quit smoking were contacted a year after they signed the card.  It turned out that 210 (21%) of the sampled individuals had not smoked over the past six month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21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opulatio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Sample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arameter of interest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80880" y="457200"/>
            <a:ext cx="8382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On Tuesday, the bottles of tomato ketchup filled in a plant were supposed to contain an average of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4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unces of ketchup.  Quality control inspectors sampled 50 bottles at random from the day’s production.  These bottles contained an average of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3.8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unces of ketchu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4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3.8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80880" y="457200"/>
            <a:ext cx="8382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On a New York-to-Denver flight,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8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the 125 passengers were selected for random security screening prior to boarding.  According to the Transportation Security Administration,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0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airline passengers are chosen for random screening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8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0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457200"/>
            <a:ext cx="8382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researcher wants to find out which of two pain relievers works better.  He takes 100 people and randomly gives half of them medicine #1 and the other half medicine #2. 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7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people taking medicine 1 report improvement in their pain and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20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people taking medicine #2 report improvement in their pai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7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20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4572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Different Symbol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80880" y="11574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Statistic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Parameter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Measures?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80880" y="1981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 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Lucida Sans"/>
              </a:rPr>
              <a:t>proportion/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80880" y="283356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         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μ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means/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9"/>
              <p:cNvSpPr txBox="1"/>
              <p:nvPr/>
            </p:nvSpPr>
            <p:spPr>
              <a:xfrm>
                <a:off x="609480" y="1981080"/>
                <a:ext cx="46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5" name="Rectangle 12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11"/>
              <p:cNvSpPr txBox="1"/>
              <p:nvPr/>
            </p:nvSpPr>
            <p:spPr>
              <a:xfrm>
                <a:off x="596880" y="289548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" name="Line 13"/>
          <p:cNvSpPr/>
          <p:nvPr/>
        </p:nvSpPr>
        <p:spPr>
          <a:xfrm>
            <a:off x="380880" y="26668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380880" y="35812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2438280" y="1219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5486400" y="1219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28600" y="166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SAMPLING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28600" y="6858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Differen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samples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give us differ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8600" y="2209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Bigger samples are bett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28600" y="30481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If we take lots of samples of the same size, the variation from sample to sample follows a predictable pattern  =   they make a good grap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1219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Differen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size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samples give us differ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038480" y="4572000"/>
            <a:ext cx="3812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419720" y="480060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3657600" y="480060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800600" y="5105520"/>
            <a:ext cx="3808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3276720" y="5105520"/>
            <a:ext cx="3808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181480" y="5562720"/>
            <a:ext cx="381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2895480" y="5562720"/>
            <a:ext cx="381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5562720" y="58672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514600" y="58672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V="1">
            <a:off x="41911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2819520" y="62485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209680" y="2590920"/>
            <a:ext cx="3812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590920" y="281952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828800" y="281952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971800" y="3124080"/>
            <a:ext cx="3808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447920" y="3124080"/>
            <a:ext cx="3808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3352680" y="3581280"/>
            <a:ext cx="3812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066680" y="3581280"/>
            <a:ext cx="3812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733920" y="388620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685800" y="388620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 flipV="1">
            <a:off x="2362320" y="4038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6858000" y="259092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7238880" y="3124080"/>
            <a:ext cx="38124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6477120" y="3276720"/>
            <a:ext cx="380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762012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6095880" y="3657600"/>
            <a:ext cx="3812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2"/>
          <p:cNvSpPr/>
          <p:nvPr/>
        </p:nvSpPr>
        <p:spPr>
          <a:xfrm flipV="1">
            <a:off x="7010280" y="4038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228600" y="15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Variability = spread/width of grap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304920" y="10810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Larger samples give smaller vari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304920" y="49528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228600" y="1905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Lucida Sans"/>
              </a:rPr>
              <a:t>Lots of samples of size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609480" y="43434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5257800" y="43434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5181480" y="1905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Lucida Sans"/>
              </a:rPr>
              <a:t>Lots of samples of size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4114800" y="4038480"/>
            <a:ext cx="3808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304920" y="4038480"/>
            <a:ext cx="3808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0:19:33Z</dcterms:created>
  <dc:creator>Lauren Senske</dc:creator>
  <dc:description/>
  <dc:language>en-US</dc:language>
  <cp:lastModifiedBy>Lauren Senske</cp:lastModifiedBy>
  <dcterms:modified xsi:type="dcterms:W3CDTF">2010-10-11T16:08:58Z</dcterms:modified>
  <cp:revision>28</cp:revision>
  <dc:subject/>
  <dc:title>Slide 1</dc:title>
</cp:coreProperties>
</file>